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3B8-3B7A-4EFA-AAB9-DAD579C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21D-04C6-4F33-9D47-40DF90A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6C1-7EBA-457E-B28B-E4D19245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D2D-9C02-41AA-B2C8-DCFDE49A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593-D5F0-4058-AFD9-3BB5B3C1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7FD-24C6-4296-AE8D-FFCD32ED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A0D-2E2C-4670-BC5A-54BB842E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1E2-9CDE-4DD8-84A1-E5A985B4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9BB-5FB8-4B03-8408-8BB3400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80A-A7AC-440D-8AC8-18481E8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E36-A84A-4DB0-9E98-5044A32C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5DA-A8F5-4EEF-97FD-B1D9B41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4DF0-7FDC-45E5-8840-033DA1067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asion of Norm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yron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alled Neptune or Operation Over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 June 6,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rgest invasion of all time, with over  175,000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turning points in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asion required transport material from the UK by troop laden aircraft s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campaigned to sabotage various groups with attacking railway lines, ambushing 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borne Assault- In gliders Europe had to reinforce para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ssigned to jump behind the enemy lines at night five ours after coastal land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ight D. Eisenh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general of the commanding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ermany surrendered he was appointed military gover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ted- “We will accept nothing less than full victor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4386240"/>
            <a:ext cx="3124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5:57:44Z</dcterms:created>
  <dc:creator>30957</dc:creator>
  <dc:description/>
  <dc:language>en-US</dc:language>
  <cp:lastModifiedBy>30957</cp:lastModifiedBy>
  <dcterms:modified xsi:type="dcterms:W3CDTF">2009-12-11T19:12:15Z</dcterms:modified>
  <cp:revision>5</cp:revision>
  <dc:subject/>
  <dc:title>D-Day Invasion of Normandy</dc:title>
</cp:coreProperties>
</file>